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wmf" ContentType="image/x-wmf"/>
  <Override PartName="/ppt/media/image5.png" ContentType="image/png"/>
  <Override PartName="/ppt/media/image6.gif" ContentType="image/gi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61F-0587-496E-B7F3-EBDAE3D3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0152-4DFE-456A-9A27-34CCD865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90B-8890-4B0A-9746-DE372380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6C5-C447-4B9A-9D1C-FC5F6096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87CF-90E2-486F-8A9D-AFF6A110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89FB-4739-4F67-B1BF-A4F99DA7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E846-152C-46AF-A9BB-F4E34BA5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0A4B-A0E0-4375-954D-FEE31CBC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9E4F-0B01-441A-92DA-0CD953DF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90C2-B304-4D77-9748-57E15AF9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51F0-8E08-4633-A92F-6B7CA37C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212E-C479-4C99-8098-B90424C1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DB85-45DA-4870-B38C-5D331CB7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6F75-44E7-4E1D-8534-C9897B1B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31E9-99F7-45C6-8D86-19A752E6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660D-391D-4E57-8E0F-4C9DE3EB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FEB9-7962-4BFA-9309-A8C0E486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A33-E706-40E9-8438-2E0D79CE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BA2B-A65D-4D8C-B842-07C0BC23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28E-5B5A-4DDF-B187-7FFB74F3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217-56D4-408E-8462-F1031411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EA2-4B64-45CE-BB22-0A7251AF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88B-6147-46C6-926E-FCD0EE2E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640-6E18-4017-B0EE-881DE78D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18DB-2F8B-461A-B9C0-9A34AE699C1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37EC-846B-441A-AAA6-84E23E782D6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Franklin Gothic Heavy"/>
              </a:rPr>
              <a:t>Riscos / Catástrofes Naturai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564" t="2305" r="564" b="1152"/>
          <a:stretch/>
        </p:blipFill>
        <p:spPr>
          <a:xfrm>
            <a:off x="539640" y="1916280"/>
            <a:ext cx="8131320" cy="39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Franklin Gothic Heavy"/>
              </a:rPr>
              <a:t>Riscos = Catástrofes Natura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860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cc51"/>
                </a:solidFill>
                <a:latin typeface="Brush Script MT"/>
              </a:rPr>
              <a:t>Risco Natural</a:t>
            </a:r>
            <a:r>
              <a:rPr b="0" lang="en-US" sz="3600" spc="-1" strike="noStrike">
                <a:solidFill>
                  <a:srgbClr val="5e855b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omic Sans MS"/>
              </a:rPr>
              <a:t>Todo o perigo que pode ameaçar o Hom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omic Sans MS"/>
              </a:rPr>
              <a:t>Resultante de um fenómeno natural como sej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Font typeface="Symbol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mic Sans MS"/>
              </a:rPr>
              <a:t>Sismo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Font typeface="Symbol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mic Sans MS"/>
              </a:rPr>
              <a:t>Furacão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Font typeface="Symbol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mic Sans MS"/>
              </a:rPr>
              <a:t>Avalanch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Font typeface="Symbol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mic Sans MS"/>
              </a:rPr>
              <a:t>Inundação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omic Sans MS"/>
              </a:rPr>
              <a:t>Também existem fenómenos artificiais como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Font typeface="Symbol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mic Sans MS"/>
              </a:rPr>
              <a:t>poluição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Font typeface="Symbol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mic Sans MS"/>
              </a:rPr>
              <a:t>incêndio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2920" y="1557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a8456"/>
                </a:solidFill>
                <a:latin typeface="Agency FB"/>
              </a:rPr>
              <a:t>Catástrof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a8456"/>
                </a:solidFill>
                <a:latin typeface="Agency FB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Comic Sans MS"/>
              </a:rPr>
              <a:t>acontecimento súbito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mic Sans MS"/>
              </a:rPr>
              <a:t>sempre imprevisí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mic Sans MS"/>
              </a:rPr>
              <a:t>de origem natural ou artifici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mic Sans MS"/>
              </a:rPr>
              <a:t>provoca vitimas e danos materiai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mic Sans MS"/>
              </a:rPr>
              <a:t>afecta gravemente a segurança das pessoas, as condições de vida das populaçõe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mic Sans MS"/>
              </a:rPr>
              <a:t>tem consequências socio-económicas para o paí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2016360" cy="191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eaeaea"/>
                </a:solidFill>
                <a:latin typeface="Tempus Sans ITC"/>
              </a:rPr>
              <a:t>	</a:t>
            </a:r>
            <a:r>
              <a:rPr b="1" lang="pt-PT" sz="2400" spc="-1" strike="noStrike">
                <a:solidFill>
                  <a:srgbClr val="eaeaea"/>
                </a:solidFill>
                <a:latin typeface="Tempus Sans ITC"/>
              </a:rPr>
              <a:t>Estes fenómenos têm diferentes causas naturais, que podem estar associadas</a:t>
            </a:r>
            <a:r>
              <a:rPr b="0" lang="pt-PT" sz="2400" spc="-1" strike="noStrike">
                <a:solidFill>
                  <a:srgbClr val="eaeaea"/>
                </a:solidFill>
                <a:latin typeface="Tempus Sans ITC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eaeaea"/>
                </a:solidFill>
                <a:latin typeface="Comic Sans MS"/>
              </a:rPr>
              <a:t>aos fenómenos atmosféricos – tempestades, furacões, tornados, vagas de calor e fri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eaeaea"/>
                </a:solidFill>
                <a:latin typeface="Comic Sans MS"/>
              </a:rPr>
              <a:t>á agua – inundações, sec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eaeaea"/>
                </a:solidFill>
                <a:latin typeface="Comic Sans MS"/>
              </a:rPr>
              <a:t>aos oceanos – tsunami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eaeaea"/>
                </a:solidFill>
                <a:latin typeface="Comic Sans MS"/>
              </a:rPr>
              <a:t>aos movimentos internos da Terra – sismos, vulcõ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eaeaea"/>
                </a:solidFill>
                <a:latin typeface="Comic Sans MS"/>
              </a:rPr>
              <a:t>aos declives – deslizamentos de terra, avalanch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eaeaea"/>
                </a:solidFill>
                <a:latin typeface="Comic Sans MS"/>
              </a:rPr>
              <a:t>Pode ainda haver uma combinação entre os riscos naturais e a acção humana – ex: ruptura de uma barragem, levando a uma inundaçã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300720" y="1916280"/>
            <a:ext cx="2519280" cy="1622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619280" y="4581360"/>
            <a:ext cx="2022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07920"/>
            <a:ext cx="287964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da24"/>
                </a:solidFill>
                <a:latin typeface="Kristen ITC"/>
              </a:rPr>
              <a:t>Riscos</a:t>
            </a:r>
            <a:r>
              <a:rPr b="0" lang="en-US" sz="3600" spc="-1" strike="noStrike">
                <a:solidFill>
                  <a:srgbClr val="ffffcc"/>
                </a:solidFill>
                <a:latin typeface="Kristen ITC"/>
              </a:rPr>
              <a:t> e </a:t>
            </a:r>
            <a:r>
              <a:rPr b="0" lang="en-US" sz="3600" spc="-1" strike="noStrike">
                <a:solidFill>
                  <a:srgbClr val="eec85e"/>
                </a:solidFill>
                <a:latin typeface="Kristen ITC"/>
              </a:rPr>
              <a:t>Catástrofes</a:t>
            </a:r>
            <a:r>
              <a:rPr b="0" lang="en-US" sz="3600" spc="-1" strike="noStrike">
                <a:solidFill>
                  <a:srgbClr val="ffffcc"/>
                </a:solidFill>
                <a:latin typeface="Kristen ITC"/>
              </a:rPr>
              <a:t> </a:t>
            </a:r>
            <a:r>
              <a:rPr b="0" lang="en-US" sz="3600" spc="-1" strike="noStrike">
                <a:solidFill>
                  <a:srgbClr val="a8d270"/>
                </a:solidFill>
                <a:latin typeface="Kristen ITC"/>
              </a:rPr>
              <a:t>Naturais</a:t>
            </a:r>
            <a:r>
              <a:rPr b="0" lang="en-US" sz="3600" spc="-1" strike="noStrike">
                <a:solidFill>
                  <a:srgbClr val="ffffcc"/>
                </a:solidFill>
                <a:latin typeface="Kristen ITC"/>
              </a:rPr>
              <a:t> - Mundo</a:t>
            </a:r>
            <a:r>
              <a:rPr b="0" lang="en-US" sz="4400" spc="-1" strike="noStrike">
                <a:solidFill>
                  <a:srgbClr val="ffffcc"/>
                </a:solidFill>
                <a:latin typeface="Kristen ITC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87640" y="189000"/>
            <a:ext cx="5869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Kristen ITC"/>
              </a:rPr>
              <a:t>1.Riscos Natura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95280" y="1628640"/>
            <a:ext cx="4969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113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omic Sans MS"/>
              </a:rPr>
              <a:t>Quando ocorrem em áreas desabitadas não é considerada uma catástrofe </a:t>
            </a:r>
            <a:r>
              <a:rPr b="0" lang="en-US" sz="1400" spc="-1" strike="noStrike">
                <a:solidFill>
                  <a:srgbClr val="eaeaea"/>
                </a:solidFill>
                <a:latin typeface="Comic Sans MS"/>
              </a:rPr>
              <a:t>(não ameaçou ninguém nem casou estragos</a:t>
            </a:r>
            <a:r>
              <a:rPr b="0" lang="en-US" sz="1800" spc="-1" strike="noStrike">
                <a:solidFill>
                  <a:srgbClr val="eaeaea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5000"/>
              </a:lnSpc>
              <a:spcBef>
                <a:spcPts val="176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omic Sans MS"/>
              </a:rPr>
              <a:t>Riscos naturais são diverso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eec85e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Sismo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eec85e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Vulcõe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eec85e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Furacõe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eec85e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Inundaçõe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eec85e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Vagas de calor e Frio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eec85e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Avalanche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eec85e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Tsunami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eec85e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Seca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eec85e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eslizamentos de terra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160360" cy="1550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 rot="20655600">
            <a:off x="1908000" y="2491920"/>
            <a:ext cx="1944720" cy="1851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124000" y="1773360"/>
            <a:ext cx="2160720" cy="1550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484360" y="3573360"/>
            <a:ext cx="1589040" cy="18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546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Kristen ITC"/>
              </a:rPr>
              <a:t>1.1 Sis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211640" y="2997360"/>
            <a:ext cx="4681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ebbe41"/>
                </a:solidFill>
                <a:latin typeface="Comic Sans MS"/>
              </a:rPr>
              <a:t>Caus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just">
              <a:lnSpc>
                <a:spcPct val="75000"/>
              </a:lnSpc>
              <a:spcAft>
                <a:spcPts val="524"/>
              </a:spcAft>
              <a:buClr>
                <a:srgbClr val="eec85e"/>
              </a:buClr>
              <a:buSzPct val="7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Maiandra GD"/>
              </a:rPr>
              <a:t>São provocados pelo movimentos das placas litosféricas (tectónicas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just">
              <a:lnSpc>
                <a:spcPct val="75000"/>
              </a:lnSpc>
              <a:spcAft>
                <a:spcPts val="524"/>
              </a:spcAft>
              <a:buClr>
                <a:srgbClr val="eec85e"/>
              </a:buClr>
              <a:buSzPct val="7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Maiandra GD"/>
              </a:rPr>
              <a:t>É nas zonas de contacto das placas que ocorrem os sismos e as erupções vulcânicas (alguns dos maiores ocorrem nas áreas de convergência, onde uma das placas é obrigada a mergulhar sob a outra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just">
              <a:lnSpc>
                <a:spcPct val="75000"/>
              </a:lnSpc>
              <a:spcAft>
                <a:spcPts val="524"/>
              </a:spcAft>
              <a:buClr>
                <a:srgbClr val="eec85e"/>
              </a:buClr>
              <a:buSzPct val="7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Maiandra GD"/>
              </a:rPr>
              <a:t>Quando as placas colidem de frente ou deslizam, uma em relação à outra, verifica-se uma deformação e a fractura das rochas da crosta, seguido do deslocamento de grandes blocos rochoso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just">
              <a:lnSpc>
                <a:spcPct val="75000"/>
              </a:lnSpc>
              <a:spcAft>
                <a:spcPts val="488"/>
              </a:spcAft>
              <a:buClr>
                <a:srgbClr val="eec85e"/>
              </a:buClr>
              <a:buSzPct val="7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Maiandra GD"/>
              </a:rPr>
              <a:t>Da ruptura e deslocamento dos blocos surge a libertação</a:t>
            </a:r>
            <a:r>
              <a:rPr b="0" lang="en-US" sz="1300" spc="-1" strike="noStrike">
                <a:solidFill>
                  <a:srgbClr val="eaeaea"/>
                </a:solidFill>
                <a:latin typeface="Maiandra GD"/>
              </a:rPr>
              <a:t> 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just">
              <a:lnSpc>
                <a:spcPct val="75000"/>
              </a:lnSpc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 rot="270000">
            <a:off x="5076360" y="836280"/>
            <a:ext cx="3467160" cy="2060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3919320" cy="1887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1773360"/>
            <a:ext cx="4681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ebbe41"/>
                </a:solidFill>
                <a:latin typeface="Comic Sans MS"/>
              </a:rPr>
              <a:t>O que são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Aft>
                <a:spcPts val="675"/>
              </a:spcAft>
              <a:buClr>
                <a:srgbClr val="eec85e"/>
              </a:buClr>
              <a:buSzPct val="7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aiandra GD"/>
              </a:rPr>
              <a:t>Sismos ou tremores de terra são movimentos oscilatórios bruscos e repentinos da crosta terrestre provocados pela irradiação das ondas sísmica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0:21:28Z</dcterms:created>
  <dc:creator>Marinela Passos</dc:creator>
  <dc:description/>
  <dc:language>en-US</dc:language>
  <cp:lastModifiedBy>Marinela Passos</cp:lastModifiedBy>
  <dcterms:modified xsi:type="dcterms:W3CDTF">2007-09-25T22:16:33Z</dcterms:modified>
  <cp:revision>8</cp:revision>
  <dc:subject/>
  <dc:title>Riscos / Catástrofes Natura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